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9288-EF39-46F4-91A6-59E16BFC0FD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8CC6-8861-416C-9601-F544909D43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C2AD-690F-4FBB-A522-31EFEF0B8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33004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0800" y="2268000"/>
            <a:ext cx="33004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B809-2432-4ED1-801E-7631D17D4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12080" y="19458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0800" y="22680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12080" y="22680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6F33-0097-4AFE-A72A-372B7227F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1062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36800" y="1945800"/>
            <a:ext cx="1062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52440" y="1945800"/>
            <a:ext cx="1062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0800" y="2268000"/>
            <a:ext cx="1062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36800" y="2268000"/>
            <a:ext cx="1062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052440" y="2268000"/>
            <a:ext cx="1062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A00C-E7F3-4F50-97D3-252538567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0800" y="1945800"/>
            <a:ext cx="330048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33004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16102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12080" y="1945800"/>
            <a:ext cx="16102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92000" y="380520"/>
            <a:ext cx="822960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12080" y="1945800"/>
            <a:ext cx="16102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20800" y="22680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0800" y="1945800"/>
            <a:ext cx="330048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A39B-582B-434F-8782-073F221A9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16102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12080" y="19458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12080" y="22680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12080" y="19458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0800" y="2268000"/>
            <a:ext cx="33004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33004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20800" y="2268000"/>
            <a:ext cx="33004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12080" y="19458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0800" y="22680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12080" y="22680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1062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936800" y="1945800"/>
            <a:ext cx="1062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52440" y="1945800"/>
            <a:ext cx="1062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20800" y="2268000"/>
            <a:ext cx="1062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936800" y="2268000"/>
            <a:ext cx="1062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052440" y="2268000"/>
            <a:ext cx="1062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33004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ABA7-EC5A-438B-A3BC-048DCA502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16102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12080" y="1945800"/>
            <a:ext cx="16102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B644-8A04-446D-B916-F19C6525E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DA75-D2C0-42D8-92AF-94A1CED6B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92000" y="380520"/>
            <a:ext cx="822960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D45F-309A-4483-B248-F66CA7EC4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12080" y="1945800"/>
            <a:ext cx="16102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0800" y="22680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4BF2-79AD-45B3-B6F1-65E50F1EB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16102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12080" y="19458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12080" y="22680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5D11-3187-406D-BE34-560CA7AD7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2000" y="378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0800" y="19458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12080" y="1945800"/>
            <a:ext cx="1610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0800" y="2268000"/>
            <a:ext cx="33004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5BE4-A2E6-4BB7-B251-24C25F4CB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5040" y="1242720"/>
            <a:ext cx="808992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982800" indent="-351000">
              <a:spcBef>
                <a:spcPts val="70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390680" indent="-22860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878120" indent="-308160">
              <a:spcBef>
                <a:spcPts val="7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286000" indent="-228600">
              <a:spcBef>
                <a:spcPts val="700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286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286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63720" y="6470280"/>
            <a:ext cx="801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1251-B371-4867-AC7F-C61BFC6926DF}" type="slidenum"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4575240" y="6448320"/>
            <a:ext cx="4222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19" descr="arche-105"/>
          <p:cNvPicPr/>
          <p:nvPr/>
        </p:nvPicPr>
        <p:blipFill>
          <a:blip r:embed="rId2"/>
          <a:stretch/>
        </p:blipFill>
        <p:spPr>
          <a:xfrm>
            <a:off x="7927920" y="5851440"/>
            <a:ext cx="797040" cy="569880"/>
          </a:xfrm>
          <a:prstGeom prst="rect">
            <a:avLst/>
          </a:prstGeom>
          <a:ln w="0">
            <a:noFill/>
          </a:ln>
        </p:spPr>
      </p:pic>
      <p:sp>
        <p:nvSpPr>
          <p:cNvPr id="5" name="Line 5"/>
          <p:cNvSpPr/>
          <p:nvPr/>
        </p:nvSpPr>
        <p:spPr>
          <a:xfrm>
            <a:off x="0" y="64119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8" descr="imagebase"/>
          <p:cNvPicPr/>
          <p:nvPr/>
        </p:nvPicPr>
        <p:blipFill>
          <a:blip r:embed="rId2"/>
          <a:stretch/>
        </p:blipFill>
        <p:spPr>
          <a:xfrm>
            <a:off x="0" y="2651040"/>
            <a:ext cx="9144000" cy="285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2000" y="3805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0800" y="1945800"/>
            <a:ext cx="33004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13040" indent="-11304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3040" indent="-11304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13040" indent="-11304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113040" indent="-11304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13040" indent="-11304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13040" indent="-11304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3240" y="55148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" name="Picture 27" descr="BNB-PPT-EN"/>
          <p:cNvPicPr/>
          <p:nvPr/>
        </p:nvPicPr>
        <p:blipFill>
          <a:blip r:embed="rId3"/>
          <a:stretch/>
        </p:blipFill>
        <p:spPr>
          <a:xfrm>
            <a:off x="6562800" y="5859360"/>
            <a:ext cx="214632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2000" y="430200"/>
            <a:ext cx="822960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3366"/>
                </a:solidFill>
                <a:latin typeface="Arial"/>
              </a:rPr>
              <a:t>FVC Reporting Proces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5520" y="1913040"/>
            <a:ext cx="24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Arial"/>
              </a:rPr>
              <a:t>Brussels, 01 December 2014</a:t>
            </a:r>
            <a:endParaRPr b="0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OneGate Repor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146E-5EC6-4959-A0DB-EDB547578DE2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0" y="1316160"/>
            <a:ext cx="7024680" cy="190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0" y="3095640"/>
            <a:ext cx="702468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OneGate Control Pan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8270-3F43-4381-9DCC-4E7B4E9C49CF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160488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OneGate Control Pan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4AEE-8BD8-48A7-B20D-1FB0A1434E40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356000" y="3768840"/>
            <a:ext cx="1143000" cy="7776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7238880" y="3768840"/>
            <a:ext cx="889200" cy="7776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2857680" y="5305320"/>
            <a:ext cx="2641320" cy="358920"/>
          </a:xfrm>
          <a:prstGeom prst="rect">
            <a:avLst/>
          </a:prstGeom>
          <a:solidFill>
            <a:srgbClr val="edf4aa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349"/>
              </a:spcBef>
              <a:buClr>
                <a:srgbClr val="cc33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4d4d4d"/>
                </a:solidFill>
                <a:latin typeface="Arial"/>
              </a:rPr>
              <a:t>List of FVC’s (variables)</a:t>
            </a:r>
            <a:endParaRPr b="0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1054080" y="5826240"/>
            <a:ext cx="2641680" cy="358560"/>
          </a:xfrm>
          <a:prstGeom prst="rect">
            <a:avLst/>
          </a:prstGeom>
          <a:solidFill>
            <a:srgbClr val="edf4aa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349"/>
              </a:spcBef>
              <a:buClr>
                <a:srgbClr val="cc33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4d4d4d"/>
                </a:solidFill>
                <a:latin typeface="Arial"/>
              </a:rPr>
              <a:t>Reporting tables</a:t>
            </a:r>
            <a:endParaRPr b="0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44600" y="3968640"/>
            <a:ext cx="2971800" cy="3463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163" name="Straight Arrow Connector 11"/>
          <p:cNvCxnSpPr>
            <a:stCxn id="162" idx="3"/>
            <a:endCxn id="160" idx="0"/>
          </p:cNvCxnSpPr>
          <p:nvPr/>
        </p:nvCxnSpPr>
        <p:spPr>
          <a:xfrm>
            <a:off x="3416400" y="4141800"/>
            <a:ext cx="762480" cy="1164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4" name="Rectangle 15"/>
          <p:cNvSpPr/>
          <p:nvPr/>
        </p:nvSpPr>
        <p:spPr>
          <a:xfrm>
            <a:off x="444600" y="4314960"/>
            <a:ext cx="2971800" cy="23148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165" name="Straight Arrow Connector 11"/>
          <p:cNvCxnSpPr/>
          <p:nvPr/>
        </p:nvCxnSpPr>
        <p:spPr>
          <a:xfrm>
            <a:off x="1841400" y="4546440"/>
            <a:ext cx="534240" cy="1270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0" y="852480"/>
            <a:ext cx="9144000" cy="56181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List of FVC's - variables (1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3AFE-08A1-484F-9545-8287A91FEF91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Right Brace 5"/>
          <p:cNvSpPr/>
          <p:nvPr/>
        </p:nvSpPr>
        <p:spPr>
          <a:xfrm rot="5400000">
            <a:off x="4225320" y="568080"/>
            <a:ext cx="241200" cy="1289160"/>
          </a:xfrm>
          <a:custGeom>
            <a:avLst/>
            <a:gdLst>
              <a:gd name="textAreaLeft" fmla="*/ 0 w 241200"/>
              <a:gd name="textAreaRight" fmla="*/ 87120 w 241200"/>
              <a:gd name="textAreaTop" fmla="*/ 22320 h 1289160"/>
              <a:gd name="textAreaBottom" fmla="*/ 1266840 h 128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6"/>
                  <a:pt x="10800" y="1211"/>
                </a:cubicBezTo>
                <a:lnTo>
                  <a:pt x="10800" y="9297"/>
                </a:lnTo>
                <a:cubicBezTo>
                  <a:pt x="10800" y="9903"/>
                  <a:pt x="16200" y="10508"/>
                  <a:pt x="21600" y="10508"/>
                </a:cubicBezTo>
                <a:cubicBezTo>
                  <a:pt x="16200" y="10508"/>
                  <a:pt x="10800" y="11114"/>
                  <a:pt x="10800" y="11719"/>
                </a:cubicBezTo>
                <a:lnTo>
                  <a:pt x="10800" y="20389"/>
                </a:lnTo>
                <a:cubicBezTo>
                  <a:pt x="10800" y="2099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847800"/>
            <a:ext cx="9144000" cy="34862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List of FVC's - variables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1160" y="1242720"/>
            <a:ext cx="899172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2480" indent="-402480">
              <a:spcBef>
                <a:spcPts val="700"/>
              </a:spcBef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02480" indent="-402480">
              <a:spcBef>
                <a:spcPts val="700"/>
              </a:spcBef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02480" indent="-402480">
              <a:spcBef>
                <a:spcPts val="700"/>
              </a:spcBef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02480" indent="-402480">
              <a:spcBef>
                <a:spcPts val="700"/>
              </a:spcBef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02480" indent="-402480">
              <a:spcBef>
                <a:spcPts val="700"/>
              </a:spcBef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02480" indent="-402480">
              <a:spcBef>
                <a:spcPts val="700"/>
              </a:spcBef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02480" indent="-402480">
              <a:spcBef>
                <a:spcPts val="700"/>
              </a:spcBef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02480" indent="-402480">
              <a:spcBef>
                <a:spcPts val="700"/>
              </a:spcBef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ECB-deadline:</a:t>
            </a: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14 working day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02480" indent="-402480">
              <a:spcBef>
                <a:spcPts val="400"/>
              </a:spcBef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NBB-deadline: </a:t>
            </a: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15 calendar days in case of changes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02480" indent="-402480">
              <a:spcBef>
                <a:spcPts val="400"/>
              </a:spcBef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otherwise 25 calendar day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073A-458C-4DCE-9972-600E4FA1CA12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Right Brace 6"/>
          <p:cNvSpPr/>
          <p:nvPr/>
        </p:nvSpPr>
        <p:spPr>
          <a:xfrm rot="5400000">
            <a:off x="4971960" y="171000"/>
            <a:ext cx="216000" cy="2108160"/>
          </a:xfrm>
          <a:custGeom>
            <a:avLst/>
            <a:gdLst>
              <a:gd name="textAreaLeft" fmla="*/ 0 w 216000"/>
              <a:gd name="textAreaRight" fmla="*/ 78120 w 216000"/>
              <a:gd name="textAreaTop" fmla="*/ 20160 h 2108160"/>
              <a:gd name="textAreaBottom" fmla="*/ 2088000 h 21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2"/>
                  <a:pt x="10800" y="663"/>
                </a:cubicBezTo>
                <a:lnTo>
                  <a:pt x="10800" y="9845"/>
                </a:lnTo>
                <a:cubicBezTo>
                  <a:pt x="10800" y="10177"/>
                  <a:pt x="16200" y="10508"/>
                  <a:pt x="21600" y="10508"/>
                </a:cubicBezTo>
                <a:cubicBezTo>
                  <a:pt x="16200" y="10508"/>
                  <a:pt x="10800" y="10840"/>
                  <a:pt x="10800" y="11171"/>
                </a:cubicBezTo>
                <a:lnTo>
                  <a:pt x="10800" y="20937"/>
                </a:lnTo>
                <a:cubicBezTo>
                  <a:pt x="10800" y="2126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2600" y="773280"/>
            <a:ext cx="9131400" cy="4956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Intermezzo: Data mod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A0FA-7DBA-4797-96A1-CD88D2D1BBF2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8" name="Picture 43" descr=""/>
          <p:cNvPicPr/>
          <p:nvPr/>
        </p:nvPicPr>
        <p:blipFill>
          <a:blip r:embed="rId2"/>
          <a:stretch/>
        </p:blipFill>
        <p:spPr>
          <a:xfrm>
            <a:off x="69840" y="1022400"/>
            <a:ext cx="1001880" cy="4935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12600" y="987480"/>
            <a:ext cx="1143000" cy="57456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708360" y="5332320"/>
            <a:ext cx="1295280" cy="384120"/>
          </a:xfrm>
          <a:prstGeom prst="rect">
            <a:avLst/>
          </a:prstGeom>
          <a:solidFill>
            <a:srgbClr val="edf4aa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20" indent="-7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4d4d4d"/>
                </a:solidFill>
                <a:latin typeface="Arial"/>
              </a:rPr>
              <a:t>SECTION</a:t>
            </a:r>
            <a:endParaRPr b="0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25560" y="1930320"/>
            <a:ext cx="2577960" cy="3799080"/>
          </a:xfrm>
          <a:prstGeom prst="rect">
            <a:avLst/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3708360" y="5905440"/>
            <a:ext cx="1727280" cy="393840"/>
          </a:xfrm>
          <a:prstGeom prst="rect">
            <a:avLst/>
          </a:prstGeom>
          <a:solidFill>
            <a:srgbClr val="edf4aa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4d4d4d"/>
                </a:solidFill>
                <a:latin typeface="Arial"/>
              </a:rPr>
              <a:t>INSTRUMENT</a:t>
            </a:r>
            <a:endParaRPr b="0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2540160" y="770040"/>
            <a:ext cx="6603840" cy="11088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5524560" y="5902200"/>
            <a:ext cx="1168200" cy="397080"/>
          </a:xfrm>
          <a:prstGeom prst="rect">
            <a:avLst/>
          </a:prstGeom>
          <a:solidFill>
            <a:srgbClr val="edf4aa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4d4d4d"/>
                </a:solidFill>
                <a:latin typeface="Arial"/>
              </a:rPr>
              <a:t>REGION</a:t>
            </a:r>
            <a:endParaRPr b="0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2603520" y="880920"/>
            <a:ext cx="6540480" cy="1049400"/>
          </a:xfrm>
          <a:prstGeom prst="rect">
            <a:avLst/>
          </a:pr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5511960" y="5332320"/>
            <a:ext cx="1180800" cy="395280"/>
          </a:xfrm>
          <a:prstGeom prst="rect">
            <a:avLst/>
          </a:prstGeom>
          <a:solidFill>
            <a:srgbClr val="edf4aa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4d4d4d"/>
                </a:solidFill>
                <a:latin typeface="Arial"/>
              </a:rPr>
              <a:t>SECTOR</a:t>
            </a:r>
            <a:endParaRPr b="0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0" y="5897520"/>
            <a:ext cx="26002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Data model – SECTION &amp; REG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35040" y="1242720"/>
            <a:ext cx="833112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6160" indent="-41616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2692440"/>
                <a:tab algn="l" pos="3048120"/>
                <a:tab algn="l" pos="3860640"/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SEC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2692440"/>
                <a:tab algn="l" pos="3048120"/>
                <a:tab algn="l" pos="3860640"/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TOCKS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Outstanding amou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2692440"/>
                <a:tab algn="l" pos="3048120"/>
                <a:tab algn="l" pos="3860640"/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LOWS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nancial transaction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2692440"/>
                <a:tab algn="l" pos="3048120"/>
                <a:tab algn="l" pos="3860640"/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WRITEOFFDOWN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rite-offs / Write-down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2692440"/>
                <a:tab algn="l" pos="3048120"/>
                <a:tab algn="l" pos="3860640"/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2692440"/>
                <a:tab algn="l" pos="3048120"/>
                <a:tab algn="l" pos="3860640"/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REG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2692440"/>
                <a:tab algn="l" pos="3048120"/>
                <a:tab algn="l" pos="3860640"/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BE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. Domestic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2692440"/>
                <a:tab algn="l" pos="3048120"/>
                <a:tab algn="l" pos="3860640"/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OTHMUM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B. Other Participating Member Stat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2692440"/>
                <a:tab algn="l" pos="3048120"/>
                <a:tab algn="l" pos="3860640"/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ROW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. Rest of the World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2692440"/>
                <a:tab algn="l" pos="3048120"/>
                <a:tab algn="l" pos="3860640"/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D. Total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63FB-B212-41A7-ACBF-35B971D6A0CF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Data model – SECTOR (1)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34680" y="1242720"/>
            <a:ext cx="835668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4160" indent="-43416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SECTOR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000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ot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39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100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F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39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00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on-MFIs, Tot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39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1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General government (S.13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39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2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ther resident sectors, Tot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39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26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on-MMF investment funds (S.124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39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27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ther financial intermediaries + financial auxiliari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39"/>
              </a:spcBef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4d4d4d"/>
                </a:solidFill>
                <a:latin typeface="Arial"/>
              </a:rPr>
              <a:t>+ captive financial institutions and money lenders</a:t>
            </a:r>
            <a:br>
              <a:rPr sz="2200"/>
            </a:br>
            <a:r>
              <a:rPr b="0" lang="en-GB" sz="2200" spc="-1" strike="noStrike">
                <a:solidFill>
                  <a:srgbClr val="4d4d4d"/>
                </a:solidFill>
                <a:latin typeface="Arial"/>
              </a:rPr>
              <a:t>           (S.125+S.126+S.127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39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22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/w FVC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CFEF-1BE6-4707-B2E4-93A71590209F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Data model – SECTOR (2)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34680" y="1242720"/>
            <a:ext cx="835668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SECTOR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39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23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4d4d4d"/>
                </a:solidFill>
                <a:latin typeface="Arial"/>
              </a:rPr>
              <a:t>Insurance corporations and pension funds </a:t>
            </a:r>
            <a:br>
              <a:rPr sz="2200"/>
            </a:br>
            <a:r>
              <a:rPr b="0" lang="en-GB" sz="2200" spc="-1" strike="noStrike">
                <a:solidFill>
                  <a:srgbClr val="4d4d4d"/>
                </a:solidFill>
                <a:latin typeface="Arial"/>
              </a:rPr>
              <a:t>           (S.128+S.129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39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24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on-financial corporations (S.11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39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25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Households + non-profit institutions serving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39"/>
              </a:spcBef>
              <a:tabLst>
                <a:tab algn="l" pos="0"/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households (S.14 + S.15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D058-15A3-49FB-B8C2-0213FA39A521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Data model – INSTRUMENT (1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5040" y="1242720"/>
            <a:ext cx="850896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5160" indent="-42516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INSTRU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ASSE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8400" indent="-26856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100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1 Deposits and loan claim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8400" indent="-26856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110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up to 1 yea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8400" indent="-26856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120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over 1 yea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8400" indent="-26856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00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2 Securitised loan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8400" indent="-26856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1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2a euro area MFI as originator (total maturity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8400" indent="-26856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12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up to 1 yea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8400" indent="-26856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14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over 1 year and up to 5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8400" indent="-26856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16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over 5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8400" indent="-26856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2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2b euro area General Government as originato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EE84-79F1-4534-83EC-22FFE3D40C33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96840" y="0"/>
            <a:ext cx="90471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0DAB-D3E9-4BFA-A03E-E12AAC938327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2082960" y="149400"/>
            <a:ext cx="1739880" cy="333360"/>
          </a:xfrm>
          <a:prstGeom prst="rect">
            <a:avLst/>
          </a:prstGeom>
          <a:solidFill>
            <a:srgbClr val="edf4aa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600" indent="-12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4d4d4d"/>
                </a:solidFill>
                <a:latin typeface="Arial"/>
              </a:rPr>
              <a:t>http://www.nbb.be</a:t>
            </a:r>
            <a:endParaRPr b="0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96840" y="3670200"/>
            <a:ext cx="1236600" cy="2160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0" y="2057400"/>
            <a:ext cx="901800" cy="2160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97" name="Straight Arrow Connector 3"/>
          <p:cNvCxnSpPr/>
          <p:nvPr/>
        </p:nvCxnSpPr>
        <p:spPr>
          <a:xfrm flipH="1">
            <a:off x="4507920" y="6184800"/>
            <a:ext cx="1626120" cy="45792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Data model – INSTRUMENT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35040" y="1242720"/>
            <a:ext cx="85089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4160" indent="-43416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INSTRU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ASSE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30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2c euro area OFI and ICPF as originato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40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2d euro area NFC as originato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250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2e non-euro area originato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300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3 Debt securiti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310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up to 1 yea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32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over 1 year and up to 5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33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over 5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40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4 Other securitised asse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41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4a o/w euro area General Gov’t as originato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13160" indent="-27432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42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4b o/w euro area NFC as originato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73B6-3DC3-4964-AC4C-1E3EAE2B4C6C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Data model – INSTRUMENT (3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35040" y="1242720"/>
            <a:ext cx="85089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INSTRU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ASSE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50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Equity and Investment fund shares/uni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60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6 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Non-financial assets (including fixed assets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70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7 Financial derivativ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3460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80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8 Remaining asse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B96E-A7A1-404E-A89F-CCC5CD9E022B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Data model – INSTRUMENT (4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5040" y="1243080"/>
            <a:ext cx="85089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INSTRU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LIABILITI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900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9 Loans and deposits received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910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   up to 1 yea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920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   over 1 yea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1000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10 Debt securities issued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101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up to 1 yea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102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over 1 year and up to 2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103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over 2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624A-7961-42C6-86C7-B1ED8C9F5374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Data model – INSTRUMENT (5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35040" y="1243080"/>
            <a:ext cx="85089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INSTRU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LIABILITI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110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11 Capital and Reserv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120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12 Financial derivativ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130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13 Remaining liabiliti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1310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13a of which accrued interest on debt securities issued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cc3300"/>
              </a:buClr>
              <a:buSzPct val="105000"/>
              <a:buFont typeface="Arial"/>
              <a:buChar char="●"/>
              <a:tabLst>
                <a:tab algn="l" pos="152388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EBB3-A17D-40F5-8376-B3A07AB947DF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Data model - XML Structur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BBFA-8D5A-4D5C-83A3-C9A8FB667D60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97000" y="1041480"/>
            <a:ext cx="44751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porting of tables - data entry (1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5040" y="1242720"/>
            <a:ext cx="850896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4d4d4d"/>
                </a:solidFill>
                <a:latin typeface="Arial"/>
              </a:rPr>
              <a:t>SECTION (STOCKS, FLOWS, WRITEOFFDOW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4d4d4d"/>
                </a:solidFill>
                <a:latin typeface="Arial"/>
              </a:rPr>
              <a:t>REGION (BE, OTHMUM, ROW, TOTAL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23EE-11B5-47CB-B87B-7AE597FCD220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0" y="2657520"/>
            <a:ext cx="9144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porting of tables - data entry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A9A-7391-415E-BFED-E44E8E689318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6426360" y="4254480"/>
            <a:ext cx="914400" cy="254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0" y="1825560"/>
            <a:ext cx="3149640" cy="19368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0" y="965160"/>
            <a:ext cx="90820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247680" y="1003320"/>
            <a:ext cx="8674200" cy="22352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porting of tables - data entry (3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7916-7A7A-4BA0-8D51-517DA1B664E1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254480" y="1828800"/>
            <a:ext cx="1257480" cy="291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247680" y="3298680"/>
            <a:ext cx="8674200" cy="3046680"/>
          </a:xfrm>
          <a:prstGeom prst="rect">
            <a:avLst/>
          </a:prstGeom>
          <a:ln w="0">
            <a:noFill/>
          </a:ln>
        </p:spPr>
      </p:pic>
      <p:sp>
        <p:nvSpPr>
          <p:cNvPr id="229" name="Oval 1"/>
          <p:cNvSpPr/>
          <p:nvPr/>
        </p:nvSpPr>
        <p:spPr>
          <a:xfrm>
            <a:off x="1054080" y="3733920"/>
            <a:ext cx="34308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porting of tables - data entry (4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42C9-1DE7-41DB-A42E-4970613655B7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1319040"/>
            <a:ext cx="91440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porting of tables - CSV-import (1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05BB-4954-4234-A36E-4311CAF22E87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Oval 5"/>
          <p:cNvSpPr/>
          <p:nvPr/>
        </p:nvSpPr>
        <p:spPr>
          <a:xfrm>
            <a:off x="6438960" y="2870280"/>
            <a:ext cx="914400" cy="253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50760" y="1739880"/>
            <a:ext cx="9144000" cy="2271600"/>
          </a:xfrm>
          <a:prstGeom prst="rect">
            <a:avLst/>
          </a:prstGeom>
          <a:ln w="0">
            <a:noFill/>
          </a:ln>
        </p:spPr>
      </p:pic>
      <p:sp>
        <p:nvSpPr>
          <p:cNvPr id="237" name="Oval 7"/>
          <p:cNvSpPr/>
          <p:nvPr/>
        </p:nvSpPr>
        <p:spPr>
          <a:xfrm>
            <a:off x="469800" y="2286000"/>
            <a:ext cx="381240" cy="380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9530-7CAF-4248-B1C5-890CC07064AC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66640" y="1244520"/>
            <a:ext cx="8042400" cy="3873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6667560" y="2552760"/>
            <a:ext cx="901800" cy="2160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101" name="Straight Arrow Connector 9"/>
          <p:cNvCxnSpPr/>
          <p:nvPr/>
        </p:nvCxnSpPr>
        <p:spPr>
          <a:xfrm flipH="1">
            <a:off x="7517880" y="1485720"/>
            <a:ext cx="1448640" cy="991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Rectangle 11"/>
          <p:cNvSpPr/>
          <p:nvPr/>
        </p:nvSpPr>
        <p:spPr>
          <a:xfrm>
            <a:off x="5232240" y="2260440"/>
            <a:ext cx="1105200" cy="2923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103" name="Straight Arrow Connector 12"/>
          <p:cNvCxnSpPr/>
          <p:nvPr/>
        </p:nvCxnSpPr>
        <p:spPr>
          <a:xfrm flipH="1">
            <a:off x="6285960" y="393840"/>
            <a:ext cx="10674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porting of tables - CSV-import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71CF-45C8-45D7-ADC0-33A483CF497B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1"/>
          <a:stretch/>
        </p:blipFill>
        <p:spPr>
          <a:xfrm>
            <a:off x="0" y="811080"/>
            <a:ext cx="6654960" cy="53197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1028880" y="1886040"/>
            <a:ext cx="1714320" cy="29844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0" y="3882960"/>
            <a:ext cx="3111480" cy="20628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porting of tables - CSV-import (3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E7A0-6008-4ECC-AB4F-044E73FE0FCA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101520" y="836640"/>
            <a:ext cx="79628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porting of tables - CSV-import (4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D4E1-5DB1-4F71-A6B2-08B11FF74EAC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0" y="1168560"/>
            <a:ext cx="9144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0" y="3632040"/>
            <a:ext cx="7048440" cy="2057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0" y="919080"/>
            <a:ext cx="9144000" cy="226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porting of tables - Exporting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ADBA-2548-411A-BEA6-1EE227357DBD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800280" y="1452600"/>
            <a:ext cx="355320" cy="358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4000680" y="5508720"/>
            <a:ext cx="3746160" cy="637920"/>
          </a:xfrm>
          <a:prstGeom prst="rect">
            <a:avLst/>
          </a:prstGeom>
          <a:solidFill>
            <a:srgbClr val="edf4aa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600" indent="-12600">
              <a:spcBef>
                <a:spcPts val="349"/>
              </a:spcBef>
              <a:buClr>
                <a:srgbClr val="cc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nl-BE" sz="1400" spc="-1" strike="noStrike">
                <a:solidFill>
                  <a:srgbClr val="4d4d4d"/>
                </a:solidFill>
                <a:latin typeface="Arial"/>
              </a:rPr>
              <a:t>"CSV" and "XML" for one form</a:t>
            </a:r>
            <a:endParaRPr b="0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2600" indent="-12600">
              <a:spcBef>
                <a:spcPts val="349"/>
              </a:spcBef>
              <a:buClr>
                <a:srgbClr val="cc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nl-BE" sz="1400" spc="-1" strike="noStrike">
                <a:solidFill>
                  <a:srgbClr val="4d4d4d"/>
                </a:solidFill>
                <a:latin typeface="Arial"/>
              </a:rPr>
              <a:t>"XML report" for whole report (all forms)</a:t>
            </a:r>
            <a:endParaRPr b="0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28520" y="1238400"/>
            <a:ext cx="5457960" cy="3429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porting of tables - XML import (1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C822-8040-4F72-A7F9-4344797F0155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258" name="Elbow Connector 12"/>
          <p:cNvCxnSpPr/>
          <p:nvPr/>
        </p:nvCxnSpPr>
        <p:spPr>
          <a:xfrm flipV="1">
            <a:off x="2857680" y="1739520"/>
            <a:ext cx="2883600" cy="2426400"/>
          </a:xfrm>
          <a:prstGeom prst="bentConnector3">
            <a:avLst>
              <a:gd name="adj1" fmla="val 95367"/>
            </a:avLst>
          </a:prstGeom>
          <a:ln w="19080">
            <a:solidFill>
              <a:srgbClr val="ff0000"/>
            </a:solidFill>
            <a:round/>
            <a:tailEnd len="med" type="triangle" w="med"/>
          </a:ln>
        </p:spPr>
      </p:cxnSp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5721480" y="1593720"/>
            <a:ext cx="3409920" cy="3073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3"/>
          <a:stretch/>
        </p:blipFill>
        <p:spPr>
          <a:xfrm>
            <a:off x="0" y="4824360"/>
            <a:ext cx="91440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porting of tables - XML import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FAE2-6AA1-4425-AC91-AC3A6CED8C31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709640" y="4843440"/>
            <a:ext cx="5643720" cy="1150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2"/>
          <a:stretch/>
        </p:blipFill>
        <p:spPr>
          <a:xfrm>
            <a:off x="0" y="819000"/>
            <a:ext cx="6958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Exchanges - Incoming messag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35040" y="1242720"/>
            <a:ext cx="8089920" cy="4562280"/>
          </a:xfrm>
          <a:prstGeom prst="rect">
            <a:avLst/>
          </a:prstGeom>
          <a:ln w="0">
            <a:noFill/>
          </a:ln>
        </p:spPr>
      </p:pic>
      <p:sp>
        <p:nvSpPr>
          <p:cNvPr id="267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5297-3E29-414E-84E4-2C5113887109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0" y="939960"/>
            <a:ext cx="9144000" cy="47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Exchanges - File Exchange Lo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7514-CCF7-4CAF-8771-DCD29CE8A6FF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1108080"/>
            <a:ext cx="9144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8" descr=""/>
          <p:cNvPicPr/>
          <p:nvPr/>
        </p:nvPicPr>
        <p:blipFill>
          <a:blip r:embed="rId1"/>
          <a:stretch/>
        </p:blipFill>
        <p:spPr>
          <a:xfrm>
            <a:off x="-6480" y="896760"/>
            <a:ext cx="9144000" cy="2329200"/>
          </a:xfrm>
          <a:prstGeom prst="rect">
            <a:avLst/>
          </a:prstGeom>
          <a:ln w="0">
            <a:noFill/>
          </a:ln>
        </p:spPr>
      </p:pic>
      <p:sp>
        <p:nvSpPr>
          <p:cNvPr id="273" name="Oval 1"/>
          <p:cNvSpPr/>
          <p:nvPr/>
        </p:nvSpPr>
        <p:spPr>
          <a:xfrm>
            <a:off x="469800" y="1511280"/>
            <a:ext cx="3682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9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2374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porting of tables - Closing repor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7437-8FA6-4E3E-B24C-B5339ABC272C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715000" y="3730680"/>
            <a:ext cx="2768760" cy="561960"/>
          </a:xfrm>
          <a:prstGeom prst="rect">
            <a:avLst/>
          </a:prstGeom>
          <a:solidFill>
            <a:srgbClr val="edf4aa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600" indent="-12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4d4d4d"/>
                </a:solidFill>
                <a:latin typeface="Arial"/>
              </a:rPr>
              <a:t>Reopening a closed form or report is possible on request!</a:t>
            </a:r>
            <a:endParaRPr b="0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Oval 2"/>
          <p:cNvSpPr/>
          <p:nvPr/>
        </p:nvSpPr>
        <p:spPr>
          <a:xfrm>
            <a:off x="469800" y="1511280"/>
            <a:ext cx="3682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8089920" y="291960"/>
            <a:ext cx="673200" cy="604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3683160" y="6172200"/>
            <a:ext cx="888840" cy="54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469800" y="1511280"/>
            <a:ext cx="279360" cy="380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2425680" y="5003640"/>
            <a:ext cx="1701720" cy="185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Some additional inform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35040" y="1242720"/>
            <a:ext cx="808992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Reporting in </a:t>
            </a:r>
            <a:r>
              <a:rPr b="0" lang="nl-BE" sz="2800" spc="-1" strike="noStrike" u="sng">
                <a:solidFill>
                  <a:srgbClr val="4d4d4d"/>
                </a:solidFill>
                <a:uFillTx/>
                <a:latin typeface="Arial"/>
              </a:rPr>
              <a:t>euro</a:t>
            </a: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nl-BE" sz="2800" spc="-1" strike="noStrike">
                <a:solidFill>
                  <a:srgbClr val="4d4d4d"/>
                </a:solidFill>
                <a:latin typeface="Arial"/>
              </a:rPr>
              <a:t>125 000 000 €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u="sng">
                <a:solidFill>
                  <a:srgbClr val="4d4d4d"/>
                </a:solidFill>
                <a:uFillTx/>
                <a:latin typeface="Arial"/>
              </a:rPr>
              <a:t>Illustrative example</a:t>
            </a: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 with figures and validation rules are posted on our websi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u="sng">
                <a:solidFill>
                  <a:srgbClr val="4d4d4d"/>
                </a:solidFill>
                <a:uFillTx/>
                <a:latin typeface="Arial"/>
              </a:rPr>
              <a:t>Contact point</a:t>
            </a: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 with regard to OneGate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39068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4d4d4d"/>
                </a:solidFill>
                <a:latin typeface="Arial"/>
              </a:rPr>
              <a:t>Schemaa@nbb.b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5657-633E-415B-ADCA-03EBF2B2172B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OneGate Access Poin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DEA0-F6ED-4483-A891-AAB45732A165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777960" y="5878440"/>
            <a:ext cx="2697120" cy="2253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8"/>
          <p:cNvGrpSpPr/>
          <p:nvPr/>
        </p:nvGrpSpPr>
        <p:grpSpPr>
          <a:xfrm>
            <a:off x="7218360" y="1135080"/>
            <a:ext cx="1920960" cy="824040"/>
            <a:chOff x="7218360" y="1135080"/>
            <a:chExt cx="1920960" cy="824040"/>
          </a:xfrm>
        </p:grpSpPr>
        <p:sp>
          <p:nvSpPr>
            <p:cNvPr id="108" name="TextBox 6"/>
            <p:cNvSpPr/>
            <p:nvPr/>
          </p:nvSpPr>
          <p:spPr>
            <a:xfrm>
              <a:off x="7755840" y="1295280"/>
              <a:ext cx="1383480" cy="520200"/>
            </a:xfrm>
            <a:prstGeom prst="rect">
              <a:avLst/>
            </a:prstGeom>
            <a:solidFill>
              <a:srgbClr val="edf4aa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BE" sz="1400" spc="-1" strike="noStrike">
                  <a:solidFill>
                    <a:srgbClr val="4d4d4d"/>
                  </a:solidFill>
                  <a:latin typeface="Arial"/>
                </a:rPr>
                <a:t>Production Environment</a:t>
              </a:r>
              <a:endParaRPr b="0" i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9" name="Right Brace 7"/>
            <p:cNvSpPr/>
            <p:nvPr/>
          </p:nvSpPr>
          <p:spPr>
            <a:xfrm>
              <a:off x="7218360" y="1135080"/>
              <a:ext cx="423000" cy="824040"/>
            </a:xfrm>
            <a:custGeom>
              <a:avLst/>
              <a:gdLst>
                <a:gd name="textAreaLeft" fmla="*/ 0 w 423000"/>
                <a:gd name="textAreaRight" fmla="*/ 152640 w 423000"/>
                <a:gd name="textAreaTop" fmla="*/ 10800 h 824040"/>
                <a:gd name="textAreaBottom" fmla="*/ 81324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63"/>
                    <a:pt x="10800" y="925"/>
                  </a:cubicBezTo>
                  <a:lnTo>
                    <a:pt x="10800" y="9875"/>
                  </a:lnTo>
                  <a:cubicBezTo>
                    <a:pt x="10800" y="10338"/>
                    <a:pt x="16200" y="10800"/>
                    <a:pt x="21600" y="10800"/>
                  </a:cubicBezTo>
                  <a:cubicBezTo>
                    <a:pt x="16200" y="10800"/>
                    <a:pt x="10800" y="11263"/>
                    <a:pt x="10800" y="11725"/>
                  </a:cubicBezTo>
                  <a:lnTo>
                    <a:pt x="10800" y="20675"/>
                  </a:lnTo>
                  <a:cubicBezTo>
                    <a:pt x="10800" y="2113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2520" indent="-452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77960" y="838080"/>
            <a:ext cx="6357960" cy="554364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9"/>
          <p:cNvGrpSpPr/>
          <p:nvPr/>
        </p:nvGrpSpPr>
        <p:grpSpPr>
          <a:xfrm>
            <a:off x="6012000" y="4465800"/>
            <a:ext cx="1920600" cy="822240"/>
            <a:chOff x="6012000" y="4465800"/>
            <a:chExt cx="1920600" cy="822240"/>
          </a:xfrm>
        </p:grpSpPr>
        <p:sp>
          <p:nvSpPr>
            <p:cNvPr id="112" name="TextBox 10"/>
            <p:cNvSpPr/>
            <p:nvPr/>
          </p:nvSpPr>
          <p:spPr>
            <a:xfrm>
              <a:off x="6549120" y="4625640"/>
              <a:ext cx="1383480" cy="520200"/>
            </a:xfrm>
            <a:prstGeom prst="rect">
              <a:avLst/>
            </a:prstGeom>
            <a:solidFill>
              <a:srgbClr val="edf4aa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BE" sz="1400" spc="-1" strike="noStrike">
                  <a:solidFill>
                    <a:srgbClr val="4d4d4d"/>
                  </a:solidFill>
                  <a:latin typeface="Arial"/>
                </a:rPr>
                <a:t>Testing Environment</a:t>
              </a:r>
              <a:endParaRPr b="0" i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" name="Right Brace 11"/>
            <p:cNvSpPr/>
            <p:nvPr/>
          </p:nvSpPr>
          <p:spPr>
            <a:xfrm>
              <a:off x="6012000" y="4465800"/>
              <a:ext cx="423000" cy="822240"/>
            </a:xfrm>
            <a:custGeom>
              <a:avLst/>
              <a:gdLst>
                <a:gd name="textAreaLeft" fmla="*/ 0 w 423000"/>
                <a:gd name="textAreaRight" fmla="*/ 152640 w 423000"/>
                <a:gd name="textAreaTop" fmla="*/ 10800 h 822240"/>
                <a:gd name="textAreaBottom" fmla="*/ 81144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63"/>
                    <a:pt x="10800" y="925"/>
                  </a:cubicBezTo>
                  <a:lnTo>
                    <a:pt x="10800" y="9875"/>
                  </a:lnTo>
                  <a:cubicBezTo>
                    <a:pt x="10800" y="10338"/>
                    <a:pt x="16200" y="10800"/>
                    <a:pt x="21600" y="10800"/>
                  </a:cubicBezTo>
                  <a:cubicBezTo>
                    <a:pt x="16200" y="10800"/>
                    <a:pt x="10800" y="11263"/>
                    <a:pt x="10800" y="11725"/>
                  </a:cubicBezTo>
                  <a:lnTo>
                    <a:pt x="10800" y="20675"/>
                  </a:lnTo>
                  <a:cubicBezTo>
                    <a:pt x="10800" y="2113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2520" indent="-452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4" name="Rectangle 17"/>
          <p:cNvSpPr/>
          <p:nvPr/>
        </p:nvSpPr>
        <p:spPr>
          <a:xfrm>
            <a:off x="1346040" y="3162240"/>
            <a:ext cx="876600" cy="2160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Right Arrow 15"/>
          <p:cNvSpPr/>
          <p:nvPr/>
        </p:nvSpPr>
        <p:spPr>
          <a:xfrm rot="10800000">
            <a:off x="3368520" y="3377880"/>
            <a:ext cx="1176480" cy="320760"/>
          </a:xfrm>
          <a:prstGeom prst="rightArrow">
            <a:avLst>
              <a:gd name="adj1" fmla="val 50000"/>
              <a:gd name="adj2" fmla="val 181606"/>
            </a:avLst>
          </a:prstGeom>
          <a:solidFill>
            <a:srgbClr val="edf4aa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20800" y="1945800"/>
            <a:ext cx="33004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3366"/>
                </a:solidFill>
                <a:latin typeface="Arial"/>
              </a:rPr>
              <a:t>Thank you for your attention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792000" y="91116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3366"/>
                </a:solidFill>
                <a:latin typeface="Arial"/>
              </a:rPr>
              <a:t>FVC Reporting Process</a:t>
            </a:r>
            <a:endParaRPr b="0" i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Request Usernam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0F26-BD39-4048-A8E6-8E2DEEF96616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22440" y="779400"/>
            <a:ext cx="6738840" cy="178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622440" y="2565360"/>
            <a:ext cx="67388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Troubleshoot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6FE2-373E-4EE7-8285-B96C19F15F24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28480" y="1362240"/>
            <a:ext cx="80791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Access Username/Passwor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35040" y="1242720"/>
            <a:ext cx="808992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cc3300"/>
              </a:buClr>
              <a:buSzPct val="9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F70E-151D-4752-8392-4BC687079D11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737240" y="1276200"/>
            <a:ext cx="4124160" cy="278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622440" y="1276200"/>
            <a:ext cx="4114800" cy="2781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7236000" y="3632040"/>
            <a:ext cx="717480" cy="2923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129" name="Straight Arrow Connector 9"/>
          <p:cNvCxnSpPr/>
          <p:nvPr/>
        </p:nvCxnSpPr>
        <p:spPr>
          <a:xfrm flipH="1">
            <a:off x="7665840" y="2681280"/>
            <a:ext cx="575280" cy="721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4680" y="-147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Access Electronic Certificat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3E1A-B9EE-49F2-AC07-5777AFEB4E4D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11040" y="884160"/>
            <a:ext cx="5386320" cy="2379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4546440" y="884160"/>
            <a:ext cx="4124520" cy="24861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7045200" y="2971800"/>
            <a:ext cx="717840" cy="291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311040" y="3551400"/>
            <a:ext cx="4600800" cy="2485800"/>
          </a:xfrm>
          <a:prstGeom prst="rect">
            <a:avLst/>
          </a:prstGeom>
          <a:ln w="0">
            <a:noFill/>
          </a:ln>
        </p:spPr>
      </p:pic>
      <p:cxnSp>
        <p:nvCxnSpPr>
          <p:cNvPr id="136" name="Straight Arrow Connector 8"/>
          <p:cNvCxnSpPr/>
          <p:nvPr/>
        </p:nvCxnSpPr>
        <p:spPr>
          <a:xfrm flipV="1">
            <a:off x="1533600" y="4653720"/>
            <a:ext cx="746640" cy="10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Rectangle 16"/>
          <p:cNvSpPr/>
          <p:nvPr/>
        </p:nvSpPr>
        <p:spPr>
          <a:xfrm>
            <a:off x="3314880" y="5667480"/>
            <a:ext cx="59688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138" name="Straight Arrow Connector 17"/>
          <p:cNvCxnSpPr/>
          <p:nvPr/>
        </p:nvCxnSpPr>
        <p:spPr>
          <a:xfrm>
            <a:off x="2611080" y="5560920"/>
            <a:ext cx="592920" cy="2469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9" name="Picture 6" descr=""/>
          <p:cNvPicPr/>
          <p:nvPr/>
        </p:nvPicPr>
        <p:blipFill>
          <a:blip r:embed="rId4"/>
          <a:stretch/>
        </p:blipFill>
        <p:spPr>
          <a:xfrm>
            <a:off x="4905360" y="3551400"/>
            <a:ext cx="3884760" cy="2485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1"/>
          <p:cNvSpPr/>
          <p:nvPr/>
        </p:nvSpPr>
        <p:spPr>
          <a:xfrm>
            <a:off x="5003640" y="5781600"/>
            <a:ext cx="50508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141" name="Straight Arrow Connector 22"/>
          <p:cNvCxnSpPr/>
          <p:nvPr/>
        </p:nvCxnSpPr>
        <p:spPr>
          <a:xfrm flipH="1">
            <a:off x="7845120" y="2117880"/>
            <a:ext cx="575280" cy="721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" name="Straight Arrow Connector 12"/>
          <p:cNvCxnSpPr/>
          <p:nvPr/>
        </p:nvCxnSpPr>
        <p:spPr>
          <a:xfrm flipH="1">
            <a:off x="5835240" y="5086440"/>
            <a:ext cx="575280" cy="721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28600" y="222120"/>
            <a:ext cx="8686800" cy="522000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3"/>
          <p:cNvSpPr/>
          <p:nvPr/>
        </p:nvSpPr>
        <p:spPr>
          <a:xfrm>
            <a:off x="-63360" y="6470640"/>
            <a:ext cx="801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2B85-93DF-4A28-B890-45510AB9B43B}" type="slidenum">
              <a:rPr b="1" lang="nl-NL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Line Callout 1 5"/>
          <p:cNvSpPr/>
          <p:nvPr/>
        </p:nvSpPr>
        <p:spPr>
          <a:xfrm>
            <a:off x="4648320" y="1898640"/>
            <a:ext cx="2082600" cy="368280"/>
          </a:xfrm>
          <a:prstGeom prst="borderCallout1">
            <a:avLst>
              <a:gd name="adj1" fmla="val 18750"/>
              <a:gd name="adj2" fmla="val -8333"/>
              <a:gd name="adj3" fmla="val -278782"/>
              <a:gd name="adj4" fmla="val -62722"/>
            </a:avLst>
          </a:prstGeom>
          <a:solidFill>
            <a:srgbClr val="edf4aa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4d4d4d"/>
                </a:solidFill>
                <a:latin typeface="Arial"/>
              </a:rPr>
              <a:t>Reporting obligations</a:t>
            </a:r>
            <a:endParaRPr b="0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Line Callout 1 6"/>
          <p:cNvSpPr/>
          <p:nvPr/>
        </p:nvSpPr>
        <p:spPr>
          <a:xfrm>
            <a:off x="4991040" y="1428840"/>
            <a:ext cx="2298600" cy="368280"/>
          </a:xfrm>
          <a:prstGeom prst="borderCallout1">
            <a:avLst>
              <a:gd name="adj1" fmla="val 18750"/>
              <a:gd name="adj2" fmla="val -8333"/>
              <a:gd name="adj3" fmla="val -144300"/>
              <a:gd name="adj4" fmla="val -37000"/>
            </a:avLst>
          </a:prstGeom>
          <a:solidFill>
            <a:srgbClr val="edf4aa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4d4d4d"/>
                </a:solidFill>
                <a:latin typeface="Arial"/>
              </a:rPr>
              <a:t>File and Mail exchanges</a:t>
            </a:r>
            <a:endParaRPr b="0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Line Callout 1 7"/>
          <p:cNvSpPr/>
          <p:nvPr/>
        </p:nvSpPr>
        <p:spPr>
          <a:xfrm>
            <a:off x="5143680" y="984240"/>
            <a:ext cx="2298600" cy="368280"/>
          </a:xfrm>
          <a:prstGeom prst="borderCallout1">
            <a:avLst>
              <a:gd name="adj1" fmla="val 18750"/>
              <a:gd name="adj2" fmla="val -8333"/>
              <a:gd name="adj3" fmla="val -23611"/>
              <a:gd name="adj4" fmla="val -14898"/>
            </a:avLst>
          </a:prstGeom>
          <a:solidFill>
            <a:srgbClr val="edf4aa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4d4d4d"/>
                </a:solidFill>
                <a:latin typeface="Arial"/>
              </a:rPr>
              <a:t>File upload</a:t>
            </a:r>
            <a:endParaRPr b="0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0:43:33Z</dcterms:created>
  <dc:creator>creemer</dc:creator>
  <dc:description/>
  <dc:language>en-US</dc:language>
  <cp:lastModifiedBy>Ottoy Patrick</cp:lastModifiedBy>
  <dcterms:modified xsi:type="dcterms:W3CDTF">2015-01-06T10:29:56Z</dcterms:modified>
  <cp:revision>327</cp:revision>
  <dc:subject/>
  <dc:title>XBRL in the CSSR</dc:title>
</cp:coreProperties>
</file>